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6594"/>
        <c:axId val="15698360"/>
      </c:barChart>
      <c:catAx>
        <c:axId val="6516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98360"/>
        <c:crosses val="autoZero"/>
        <c:auto val="1"/>
        <c:lblAlgn val="ctr"/>
        <c:lblOffset val="100"/>
        <c:noMultiLvlLbl val="0"/>
      </c:catAx>
      <c:valAx>
        <c:axId val="15698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6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610-7E6C-4A15-B57A-094C7DD5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809-BA15-4ABB-85A9-6137EB17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1E8-F95D-4BA0-B5F4-59EF97DE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348-0020-4641-A54B-A378A4BF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6D1-8178-4CFE-A7FE-47EFA0B5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AC9-1CDF-43B1-B076-D97C1B19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80F-972E-4EF0-8EB9-068D20F1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5FB-A1A4-4892-8BA2-0ED2484B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BF7-ED35-4864-A78B-4187304D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6FA-0F89-4D72-B017-A6B81CC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EC5-6A0F-4B7F-BDE1-7B8E033F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072-AE76-46EF-AE8F-3630E78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1C225-1C55-4929-84C8-F0484570DC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