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32988"/>
        <c:axId val="75138033"/>
      </c:barChart>
      <c:catAx>
        <c:axId val="772329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38033"/>
        <c:crosses val="autoZero"/>
        <c:auto val="1"/>
        <c:lblAlgn val="ctr"/>
        <c:lblOffset val="100"/>
        <c:noMultiLvlLbl val="0"/>
      </c:catAx>
      <c:valAx>
        <c:axId val="751380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329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EAD5-6305-4B59-9C2D-8235EB54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BA4-536D-49C8-B2A2-14C96BBD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86A-01A9-41CB-8BEC-654CD9C3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6AD0-2D08-4825-AE61-432C4EC2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69B-9DE6-48A4-99F4-99D2F12B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FCA-B222-419F-AB57-5A2E696F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41B-0107-4308-8A4C-83FE2B34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C7B-F0FC-42CA-9C57-7FEC0AB1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DBA6-B400-40F4-910F-34467B7F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51F-5A0C-4059-8EC3-135A624D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C5D-28D9-448C-B33B-64C54F32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2DAE-4B68-47B7-8DC7-0C620FBB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FA0EE-C347-4F78-B6F4-1B9E35023F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