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18772"/>
        <c:axId val="16194382"/>
      </c:barChart>
      <c:catAx>
        <c:axId val="65218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94382"/>
        <c:crosses val="autoZero"/>
        <c:auto val="1"/>
        <c:lblAlgn val="ctr"/>
        <c:lblOffset val="100"/>
        <c:noMultiLvlLbl val="0"/>
      </c:catAx>
      <c:valAx>
        <c:axId val="16194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18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C34-894F-4C4A-B997-28DD8A0B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4CAB-69BF-4049-88A5-7F3643C0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8AD-BD02-4DE6-AEFF-0BF076FD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1EDA-AB5F-494C-ABE1-14DD2AD4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098-6199-4D0B-965A-3393239E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8C5-95C1-431D-80F5-EBAFF223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0B0-AC05-4D41-B1F8-5F311B80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431E-542B-4728-8AD8-77E02321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493-D6FA-44FE-9BA7-32FDDD0A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EBD-A7F6-4713-BFAE-71D32BB0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136-89B6-4DAA-A0C7-37C60AE8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18F-2564-4477-B31A-C8F22958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8501F-5251-4C24-95EE-EBE15A42F8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