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67714"/>
        <c:axId val="37172922"/>
      </c:barChart>
      <c:catAx>
        <c:axId val="86367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72922"/>
        <c:crosses val="autoZero"/>
        <c:auto val="1"/>
        <c:lblAlgn val="ctr"/>
        <c:lblOffset val="100"/>
        <c:noMultiLvlLbl val="0"/>
      </c:catAx>
      <c:valAx>
        <c:axId val="37172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7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F17-5B85-4862-8478-059C7C0A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603-2806-4CF0-BD23-522A5FC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7C5-BB11-4031-8A71-3236A42D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DB5-1470-4FAE-BE61-E4C90A83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9F7-E53E-4C85-BE8B-EDBFE20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F70-2986-498A-98C5-1336386E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E60-41E3-4C9F-8661-7D2383FB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DB7-D2A3-4EC9-8712-68DADB54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472-073C-4156-8735-7A4C21A5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DBE-A579-4C7E-BF65-A4556AC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4C5-A99A-468D-99AD-CB1F0BE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405-B0E1-49E2-A3AE-B2D0AD2E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BF95-7A02-48C2-9FDB-F565CFDE5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