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22002"/>
        <c:axId val="98570172"/>
      </c:barChart>
      <c:catAx>
        <c:axId val="53122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70172"/>
        <c:crosses val="autoZero"/>
        <c:auto val="1"/>
        <c:lblAlgn val="ctr"/>
        <c:lblOffset val="100"/>
        <c:noMultiLvlLbl val="0"/>
      </c:catAx>
      <c:valAx>
        <c:axId val="98570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2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7AB-1485-43A3-A4C8-60ABC191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466-CBA4-4A2F-855D-20B1BA4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5CF-88C4-4463-A2F6-0407A437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9E1-4377-40B3-9EA7-8B940D8F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D2F-CC5D-4F93-B85C-179B9459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15C-0AB2-45BC-8C19-313CC7B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555-05A1-4A3F-8746-8AA2FF3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100-6B7B-490E-91F4-0A3984DB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CF4-0FAC-4BD5-9728-F22438F4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378-85D8-41FF-9C26-78B7D95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B5E-8055-4E48-9407-D0789C3B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F51-5BB7-4C29-950C-8CA34C2E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7E672-2FE2-4130-A51A-87EDB6FBEE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