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42938"/>
        <c:axId val="58569599"/>
      </c:barChart>
      <c:catAx>
        <c:axId val="65442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9599"/>
        <c:crosses val="autoZero"/>
        <c:auto val="1"/>
        <c:lblAlgn val="ctr"/>
        <c:lblOffset val="100"/>
        <c:noMultiLvlLbl val="0"/>
      </c:catAx>
      <c:valAx>
        <c:axId val="58569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42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DB6-7AB5-4852-B363-F2955567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3DB-6BC4-4092-88ED-10DE3753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F3D-AA7A-4EBA-83AF-9DA10F4E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0E7-C296-46E4-8F03-64830CE3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D3E-4915-4D93-9827-89B3CADE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F41-3E1E-4A7F-A086-DBAA0B7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D1C-ED0B-49BD-8A16-DB54820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2BB-F706-4145-845F-DBCD707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F34-CBE2-4903-AE8B-7915023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1AA-7B31-4E2F-B0BC-3C3DB48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C3A-6225-4723-86A5-3726B16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92C-4BBD-49FD-B202-CEDBD60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C8D8B-47DD-431C-8ED6-AE84A25F43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