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862972"/>
        <c:axId val="12309467"/>
      </c:barChart>
      <c:catAx>
        <c:axId val="93862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09467"/>
        <c:crosses val="autoZero"/>
        <c:auto val="1"/>
        <c:lblAlgn val="ctr"/>
        <c:lblOffset val="100"/>
        <c:noMultiLvlLbl val="0"/>
      </c:catAx>
      <c:valAx>
        <c:axId val="12309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62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0AE-5B6C-42A2-86B9-08A306B6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4140-B067-4E0D-8BCE-2FB09256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24C-0954-4CA1-9954-E16B69E0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A7F1-6C54-4992-9D91-95BB185C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6901-084E-48A0-9FC8-499472FE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6D5-8D43-4FCC-8EE8-49A3F6BC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A12-C76F-4BDC-AB35-4A3A17F5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632-AA96-48C1-AB7F-3DA01ED9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D3F-FA98-4A35-B86B-536B7905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5DD0-F42B-4B16-A502-2E27C766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ED9-D217-406F-A24A-B7EE5478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B4D-C219-45E2-8A08-39FBBD9B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881ED-EBC8-49D3-AB1D-F3DE5E3A80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