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40291"/>
        <c:axId val="4931282"/>
      </c:barChart>
      <c:catAx>
        <c:axId val="21940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1282"/>
        <c:crosses val="autoZero"/>
        <c:auto val="1"/>
        <c:lblAlgn val="ctr"/>
        <c:lblOffset val="100"/>
        <c:noMultiLvlLbl val="0"/>
      </c:catAx>
      <c:valAx>
        <c:axId val="4931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40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8DA-CF81-48FC-A78A-40CED352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75E-EC6E-4B1A-B64F-714E9A7A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EA2-2480-4380-82E7-6785D6B1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CF6-9127-48D1-A79E-561D4AA4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31D-B67C-48A6-B628-C788D6AB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A40-03B3-4CED-B485-D753B77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B90-6B4F-4138-9350-12D704EA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F90-D1BC-4E80-BDEE-F94DFEE9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755-8D25-4AF1-8128-FB5C6E28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878-D193-416E-8510-9BD0FCA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676-BE92-4D52-A7E2-F7DE5179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DA7-93A9-4237-9D9B-6E352579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F5779-1E9F-413D-9FC1-70A6F35CE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