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08131"/>
        <c:axId val="75379875"/>
      </c:barChart>
      <c:catAx>
        <c:axId val="80308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79875"/>
        <c:crosses val="autoZero"/>
        <c:auto val="1"/>
        <c:lblAlgn val="ctr"/>
        <c:lblOffset val="100"/>
        <c:noMultiLvlLbl val="0"/>
      </c:catAx>
      <c:valAx>
        <c:axId val="75379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08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40D-6B36-41F9-8A57-31003F7D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5DD-93EB-4220-8B56-7D18F3C8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96A-3C65-41CE-98BC-6C4274AF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A05-FF73-4EFE-BAF3-BD0DC6D7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5CE-D8B6-46E1-A0BB-D0EF23E3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539-A7C4-4DD2-885D-CD489592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C24-7678-4EEF-B7BF-FF4528AC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255-CB00-4C8B-846C-864E4F4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96F-4F66-42DF-B1C3-5EC5A10D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7C3-A515-438D-BF1C-3D8F36CE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783-1356-45E0-B2A7-830D4647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563-DF22-4431-80B0-D8DECDE1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EAF5B-9590-47B0-9C2D-9450D810E7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