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97025"/>
        <c:axId val="61468870"/>
      </c:barChart>
      <c:catAx>
        <c:axId val="848970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68870"/>
        <c:crosses val="autoZero"/>
        <c:auto val="1"/>
        <c:lblAlgn val="ctr"/>
        <c:lblOffset val="100"/>
        <c:noMultiLvlLbl val="0"/>
      </c:catAx>
      <c:valAx>
        <c:axId val="61468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970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DCB-6298-48AE-87F2-E43D6203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3C3-A8B0-4E56-8695-404EE046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B46-3C71-4381-84F0-E444FA75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776-525C-4B3F-B324-AE1DAA19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9A0-104E-4EBC-962B-95512C03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5F0-EAA8-4E44-8B90-67C7F7AB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AB7-00DE-428B-B832-987F6E5B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CB5-9ACE-4EA6-B5CB-65112EFA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BC4F-2D44-448A-9CFA-5CF239DE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C93-1922-4CA8-AC73-8B52BB54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538-8974-41E4-881D-9A2647FA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452-15F8-40DF-8789-7006D3AB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648FE-5285-48F2-BE20-E74D203381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