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11445"/>
        <c:axId val="13011149"/>
      </c:barChart>
      <c:catAx>
        <c:axId val="73211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1149"/>
        <c:crosses val="autoZero"/>
        <c:auto val="1"/>
        <c:lblAlgn val="ctr"/>
        <c:lblOffset val="100"/>
        <c:noMultiLvlLbl val="0"/>
      </c:catAx>
      <c:valAx>
        <c:axId val="13011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1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78C-3BDE-4233-BCBC-BCA14422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6D9-39E5-4FC6-9979-58B6DDE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F96-11ED-49E8-96B0-302788FF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E9F-E279-4D23-9263-1B65EB73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9A7-6AAD-4769-923F-8A97980D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9F3-B714-4140-AF6C-D7FEBA0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984-280E-4947-8FA0-493604E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63C-E4D4-4C3E-B074-BC1C19B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3F5-897B-4BE9-B315-BFD97B1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8E3-A447-4BCA-BD44-C5E9FFB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D9E-2A4A-4D4D-91F2-1A1C4EBF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7C9-0D36-47D5-B91B-96D2558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354F-9AB8-4034-B305-58DEAB012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