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9891"/>
        <c:axId val="3415465"/>
      </c:barChart>
      <c:catAx>
        <c:axId val="3479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465"/>
        <c:crosses val="autoZero"/>
        <c:auto val="1"/>
        <c:lblAlgn val="ctr"/>
        <c:lblOffset val="100"/>
        <c:noMultiLvlLbl val="0"/>
      </c:catAx>
      <c:valAx>
        <c:axId val="34154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55A-9D7F-40F6-82D4-2A30D22D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1B6-78A2-4D49-877B-8C800225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7C5-42CA-4E3E-88EC-0AB3B031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A20-CDF8-4A84-95ED-9E3EDB57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D82-467A-4AE9-8E86-8F5CE8B0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940-622C-4917-9842-D77321E3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AFD-EF8E-4EA2-9E6C-FB9FB6C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55B-1500-43C1-862A-75B740E7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B6E-622E-41B8-A891-636E58BF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EF2-2F85-4068-8D3C-23875D5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A70-D7E5-4213-8AE4-9EA1F99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CEB-413F-4108-9AE5-02F03F2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642A1-1251-435A-99D0-65F3C24A18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