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91374"/>
        <c:axId val="92738972"/>
      </c:barChart>
      <c:catAx>
        <c:axId val="46291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38972"/>
        <c:crosses val="autoZero"/>
        <c:auto val="1"/>
        <c:lblAlgn val="ctr"/>
        <c:lblOffset val="100"/>
        <c:noMultiLvlLbl val="0"/>
      </c:catAx>
      <c:valAx>
        <c:axId val="92738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91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FC0-45F5-424C-97F1-A12F483A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108-A6BB-4AE2-AB69-FC47E5FC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61A-0C22-4CE3-82F0-02428E7E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1E9-4E7C-4450-836D-96AA95A7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632-9293-43A9-A003-70722A21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86A-8D8D-434A-BCEA-F9BFED4A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3BE-F28E-4045-97AE-CC655346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7DE5-B096-4491-902B-5474FB87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813-9BA8-4FF0-82AC-73791E6E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70C-AFFE-4E31-B00D-64B2C388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F23-2BC2-44FF-85C1-F0F9BADB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ABF-3C22-4D20-883D-CD7FF081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5844D-3B43-4859-AD8C-93EA2EC507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